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7B5-2CA6-4FDC-A0F7-3F2BC101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849-8CFA-45B5-A9D7-0D16BD0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912-AEE3-436C-BD2D-4280579C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4F1-7018-4CDE-8320-6CF17281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2177-CC73-4220-B94E-F5EBC05A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BB8-A84B-49EB-B8D4-4B4ED47F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077C-E0B2-4708-9036-E9B7CFF7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DFAA-231F-4F47-B609-D021C8F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D97-E292-401A-B2A8-BC4EF105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702-62D4-48A3-A2D3-9CA66209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3B1-139C-40E8-B0CB-EED060C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9EC-C59C-4E8A-A1CA-1135402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E28B-F82B-406F-8BE7-DA60820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7641-E3DD-415D-98AD-8CE240F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9093-0E59-4FEB-BBFC-8FACC5C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3FBF-8703-4A48-9310-E0A91F2E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8276-1C69-43AE-95D3-1FE2FBD7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888-9653-43FE-A2D6-01E708A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7DA-F898-477F-A465-A112CDE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F52-DDF3-4BE1-9E2C-9413CEA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08D-7E41-480B-A6BD-BA710DE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D7E-EEB3-4388-8638-15DCDE8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17D-57B1-4E8D-BD82-ED6C0A5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9CC-E632-435A-B7B6-A8248F7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166E-A623-4D25-A71A-F56DC847E2E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480" cy="177840"/>
                        <a:chOff x="2069640" y="3811680"/>
                        <a:chExt cx="66348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8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42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80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480" cy="177840"/>
                        <a:chOff x="2053800" y="3809880"/>
                        <a:chExt cx="66348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9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3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22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DFA3-43E3-40B5-9AA0-5D412F99F2BA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he Socio-Cultural Approach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o Personality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rm-Up Refl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normally underst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yourself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an individual or as part of a group? 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define your personality in terms of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cio-Economic Stat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he Socio-Cultural Approach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rnal forces and their impact on person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ed to understand generalities about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thnicity, S.E.S., and culture help to form person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ism v. Collectiv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ndividualism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nd to define selves in terms of personal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Goals are a pri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ity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. – Western Capitalism fosters individual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5" descr="8874~Cowboy-and-Sunset-Posters"/>
          <p:cNvPicPr/>
          <p:nvPr/>
        </p:nvPicPr>
        <p:blipFill>
          <a:blip r:embed="rId6"/>
          <a:stretch/>
        </p:blipFill>
        <p:spPr>
          <a:xfrm>
            <a:off x="5105520" y="1828800"/>
            <a:ext cx="3419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ollectivism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s selves in terms of the groups in which they belo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ority goes to the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ople are only complete in terms of their social relationshi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. – Asian cultures are often collectivis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Picture 5" descr="japanesegroup"/>
          <p:cNvPicPr/>
          <p:nvPr/>
        </p:nvPicPr>
        <p:blipFill>
          <a:blip r:embed="rId5"/>
          <a:stretch/>
        </p:blipFill>
        <p:spPr>
          <a:xfrm>
            <a:off x="5334120" y="1828800"/>
            <a:ext cx="3581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d39f"/>
                </a:solidFill>
                <a:latin typeface="Times New Roman"/>
              </a:rPr>
              <a:t>Key Points - Socio-Cultural Approach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factors affect our self-concept (how we believe others see us)  as well as our self-esteem (our perceived value) (Carl Roge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get views of ourselves from the 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4" name="Picture 5" descr="Mirror-Mirror(b)"/>
          <p:cNvPicPr/>
          <p:nvPr/>
        </p:nvPicPr>
        <p:blipFill>
          <a:blip r:embed="rId3"/>
          <a:stretch/>
        </p:blipFill>
        <p:spPr>
          <a:xfrm>
            <a:off x="2362320" y="3908520"/>
            <a:ext cx="4019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ccultura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ulturation is the process of adapting to new/different cultu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ys to accultura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lete assimi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pa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-Cultur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ghest self-estee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5" descr="1175"/>
          <p:cNvPicPr/>
          <p:nvPr/>
        </p:nvPicPr>
        <p:blipFill>
          <a:blip r:embed="rId7"/>
          <a:stretch/>
        </p:blipFill>
        <p:spPr>
          <a:xfrm>
            <a:off x="4952880" y="182880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he Socio-Cultural Approach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ocio-Cultural Approach to Personality gives us a sensitivity and an appreciation of human behavior and mental proces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0" name="Picture 5" descr="hispanic_main"/>
          <p:cNvPicPr/>
          <p:nvPr/>
        </p:nvPicPr>
        <p:blipFill>
          <a:blip r:embed="rId2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slmaJudiasm"/>
          <p:cNvPicPr/>
          <p:nvPr/>
        </p:nvPicPr>
        <p:blipFill>
          <a:blip r:embed="rId3"/>
          <a:stretch/>
        </p:blipFill>
        <p:spPr>
          <a:xfrm>
            <a:off x="0" y="38098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22288164"/>
          <p:cNvPicPr/>
          <p:nvPr/>
        </p:nvPicPr>
        <p:blipFill>
          <a:blip r:embed="rId4"/>
          <a:stretch/>
        </p:blipFill>
        <p:spPr>
          <a:xfrm>
            <a:off x="1219320" y="4579920"/>
            <a:ext cx="2819160" cy="227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image?id=73603&amp;rendTypeId=4"/>
          <p:cNvPicPr/>
          <p:nvPr/>
        </p:nvPicPr>
        <p:blipFill>
          <a:blip r:embed="rId5"/>
          <a:stretch/>
        </p:blipFill>
        <p:spPr>
          <a:xfrm>
            <a:off x="3733920" y="3733920"/>
            <a:ext cx="30477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7:06:21Z</dcterms:created>
  <dc:creator>cmccoy</dc:creator>
  <dc:description/>
  <dc:language>en-US</dc:language>
  <cp:lastModifiedBy>Curtis Ranweiler</cp:lastModifiedBy>
  <dcterms:modified xsi:type="dcterms:W3CDTF">2012-03-07T18:17:30Z</dcterms:modified>
  <cp:revision>3</cp:revision>
  <dc:subject/>
  <dc:title>The Socio-Cultural Approach to Personality</dc:title>
</cp:coreProperties>
</file>